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D9DD-8CA9-4DA2-96AB-330BBF28B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5D5C-B577-4996-A05E-7789F333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B861-4D62-4A79-B869-4179C2BF3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D094-A3ED-4D39-B02A-96D390B9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81AA-F61F-4D82-B067-12813631D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852D-4A39-4BAB-8311-02F50DD82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A706-5500-4398-B991-482414377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825D-D3AE-40D6-BFA1-20EC7AF66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8AFB-51E2-4CD4-B614-55F401254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5A74-BB22-4D97-B62B-F4E71CBF7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E0AB-FD76-41A3-A384-1A39A8C6C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38BD-0103-415E-86C2-7E24B923A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714F-9136-4264-AE3E-0A65F042D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7B58-C37D-4500-8B1E-8B6E655E0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7D78-3BFA-4D4F-80E4-0FE1E02BF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8335-F989-4A11-B396-20F29CF05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9A1A-4BB0-4944-9561-233B058BD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138A-CF54-4A0F-88A2-F65834C48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BAEF-9427-4012-949F-A667DB88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B0BA-F0A7-4547-BCC4-EC4E850B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D931-8234-4D54-B5F5-E119B7EDE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6303-63D1-492B-9A66-A25FA54E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BFE8-D2A4-43D5-95E9-79222CDB4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A60D-1B91-4589-BA0E-DFA26FAC7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0303-4B91-493D-8F93-3E97A6AA3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C6DD-F8AB-4F50-BC54-44FD583D8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7132-1866-4DF8-A14D-AAC3FDF7C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1738-564C-4D78-8674-9C5B46521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7FC8-3640-4663-A608-546F4028D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AAD7-0B84-4FA2-8727-65AB03AB8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4BDE-4421-4012-96E5-A4F72FE06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88F7-C0C3-4507-B7A5-F46A0636A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EF65-EF05-405D-8D2C-1391FF691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64F4-9BB9-4E51-B7E3-5CAFCDF7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9B60-0DDB-4CEF-BD9F-556D47FB1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C88A-3C8A-4BBB-986B-FB06A0BF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2BBF-4116-4049-896B-42E22ACC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0F0D-96F8-47B1-9A5F-3099555C3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4DBE-397C-4C15-B50C-967CC2932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1907-27E6-423B-B2C8-791E69C3B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B428-A145-4A14-8C4E-AEA2BDA4E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22C6-22D1-4A78-B7CA-9BCFA4CE6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BDA2-03E1-47E6-B421-FAFDF1CA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441B-A2AB-4A76-AEBA-0AF8BD699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9605-2A05-4305-9AF9-6AD037C2C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E8C2-63E9-40CB-820B-ECC2C423C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AB4C-B883-4718-A531-84D3A89DE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BD06-F60E-459E-8BE7-4E3506B93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4E9C-66D8-402D-A6DF-705AD5438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C5A3-87B6-42B1-B1C9-536D0FF9F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6B33-6FEC-4130-8470-A9A519CFD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02D4-7EAB-437A-A794-8EC17948C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4527-A26F-4902-BAE7-5A4FB0169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E82A-2EEC-4F46-AD24-81CC7B5BC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4DF3-0CF2-4472-A5DE-83FABB4C0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7644-B371-4E07-A416-529DA3E8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B350-8915-40DF-B2B0-FA8FD938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15A1-CB7B-4975-81CA-60B1359B8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BB6B-3B8E-48CB-8C80-57C20D3BA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6C77-CC28-4533-9018-13D694D1C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E423-7E60-4414-8F84-68165C0D4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9180-9CA9-425B-B47A-20BA618D6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5F44-3F4A-43EB-8492-889EE48C4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3B21-62D1-4F05-9330-EA9025EFE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2D0B-0BBD-4E2E-8A0A-CEBE8734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0BC7-F78B-4BD3-80CE-24E22073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773C-4BEF-48BE-833E-3517C892D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712-49C6-4ADB-836A-EF461655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90D-007F-4E28-BD99-E07B8393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34B-C8FC-45E0-9D62-B2A230A3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5B7-61A0-45BE-BD3C-00FA5F3C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4D9-8756-43ED-A12A-E9B2EE8B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232-C127-44DD-8F63-1DFFFAA3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31E-9E76-4B72-A9B2-E88D2E8F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FB3-6E3C-4214-8CC2-A86C0E8F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D57-A2F2-4C11-92A5-3DC470C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82B-F670-4F78-B0CE-7FFDFA82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FF4-B236-4744-898E-ED57D27E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495-9EE8-4059-8CFE-45E53834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A635-EFD8-4054-BA93-4EFF8E5DB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6.xml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6.xm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image" Target="../media/image2.jpeg"/><Relationship Id="rId3" Type="http://schemas.openxmlformats.org/officeDocument/2006/relationships/slide" Target="slide66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7 Habits</a:t>
            </a:r>
            <a:br>
              <a:rPr sz="80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f Highly Effective</a:t>
            </a:r>
            <a:br>
              <a:rPr sz="66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ee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ltimate Teenage Succes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ook at the class list of situations and next to each one write one or two words that describe what you could do to deal with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’s too much to do and not enough time.”  --  priorit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- So -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all of the things that you have identified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m are probably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b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abi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s are things we do repeate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time we are hardly aware that we hav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on autopi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bits?  [Make a lis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ing regu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respect for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list some of the not so good ha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You have to write these too!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neg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 inf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ming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Good – Not 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bits don’t go on either list.  They are just things that we do that don’t have a positive or a negative imp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showers every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ing yogurt with a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magazines from back to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see if our class list mat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743120" y="1805040"/>
            <a:ext cx="53481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7 Habits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f Highly Effective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TEEN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 Effective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the End in Mind (mission/go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oactive  (be responsible for your li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en the Saw (renew yoursel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First Things First (Priorit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First to Understand, Then to Be Understood  (listen to peo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Win-Win (everyone can win attitu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ergize (work together to achieve m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classify the 7 Habits and give them some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(3) that are “private.”  They require self-mastery.  Self is alway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re are three (3) that are “public.”  These require you to work with someone else – teamwork.  After self, then you can work with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n (7).  What about the last one.  Where does it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habit is one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ee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ther six ha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put them in order and let’s see how you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read the poem and determine what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call out or share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answer and show only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Victory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habits deal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maste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3657600" y="1523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>
            <a:hlinkClick r:id="rId2" action="ppaction://hlinksldjump"/>
          </p:cNvPr>
          <p:cNvSpPr/>
          <p:nvPr/>
        </p:nvSpPr>
        <p:spPr>
          <a:xfrm>
            <a:off x="68580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>
            <a:hlinkClick r:id="rId3" action="ppaction://hlinksldjump"/>
          </p:cNvPr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s #1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>
            <a:hlinkClick r:id="rId1" action="ppaction://hlinksldjump"/>
          </p:cNvPr>
          <p:cNvSpPr/>
          <p:nvPr/>
        </p:nvSpPr>
        <p:spPr>
          <a:xfrm>
            <a:off x="3657600" y="1523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>
            <a:hlinkClick r:id="rId2" action="ppaction://hlinksldjump"/>
          </p:cNvPr>
          <p:cNvSpPr/>
          <p:nvPr/>
        </p:nvSpPr>
        <p:spPr>
          <a:xfrm>
            <a:off x="68580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>
            <a:hlinkClick r:id="rId3" action="ppaction://hlinksldjump"/>
          </p:cNvPr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 #2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429000" y="335268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3657600" y="1523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8580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 #3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557520" y="335268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477120" y="342900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76212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3657600" y="1676520"/>
            <a:ext cx="1371600" cy="1447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209680" y="4038480"/>
            <a:ext cx="5257800" cy="240084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#1:  Be Proactive –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ake responsibility for your lif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4138560" y="3200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rId1" action="ppaction://hlinksldjump"/>
          </p:cNvPr>
          <p:cNvSpPr/>
          <p:nvPr/>
        </p:nvSpPr>
        <p:spPr>
          <a:xfrm>
            <a:off x="380880" y="5334120"/>
            <a:ext cx="685800" cy="9903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360"/>
              <a:gd name="textAreaBottom" fmla="*/ 946080 h 990360"/>
            </a:gdLst>
            <a:ahLst/>
            <a:rect l="textAreaLeft" t="textAreaTop" r="textAreaRight" b="textAreaBottom"/>
            <a:pathLst>
              <a:path w="21600" h="31187">
                <a:moveTo>
                  <a:pt x="0" y="0"/>
                </a:moveTo>
                <a:lnTo>
                  <a:pt x="21600" y="0"/>
                </a:lnTo>
                <a:lnTo>
                  <a:pt x="21600" y="31187"/>
                </a:lnTo>
                <a:lnTo>
                  <a:pt x="0" y="31187"/>
                </a:lnTo>
                <a:close/>
              </a:path>
              <a:path fill="lightenLess" w="21600" h="311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87">
                <a:moveTo>
                  <a:pt x="21600" y="0"/>
                </a:moveTo>
                <a:lnTo>
                  <a:pt x="21600" y="31187"/>
                </a:lnTo>
                <a:lnTo>
                  <a:pt x="20200" y="29787"/>
                </a:lnTo>
                <a:lnTo>
                  <a:pt x="20200" y="1400"/>
                </a:lnTo>
                <a:close/>
              </a:path>
              <a:path fill="darkenLess" w="21600" h="31187">
                <a:moveTo>
                  <a:pt x="21600" y="31187"/>
                </a:moveTo>
                <a:lnTo>
                  <a:pt x="0" y="31187"/>
                </a:lnTo>
                <a:lnTo>
                  <a:pt x="1400" y="29787"/>
                </a:lnTo>
                <a:lnTo>
                  <a:pt x="20200" y="29787"/>
                </a:lnTo>
                <a:close/>
              </a:path>
              <a:path fill="lighten" w="21600" h="31187">
                <a:moveTo>
                  <a:pt x="0" y="311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87"/>
                </a:lnTo>
                <a:close/>
              </a:path>
              <a:path fill="darken" w="21600" h="31187">
                <a:moveTo>
                  <a:pt x="3794" y="12286"/>
                </a:moveTo>
                <a:lnTo>
                  <a:pt x="7301" y="12286"/>
                </a:lnTo>
                <a:lnTo>
                  <a:pt x="7301" y="17622"/>
                </a:lnTo>
                <a:cubicBezTo>
                  <a:pt x="7301" y="18544"/>
                  <a:pt x="8102" y="19275"/>
                  <a:pt x="9138" y="19275"/>
                </a:cubicBezTo>
                <a:lnTo>
                  <a:pt x="10800" y="19275"/>
                </a:lnTo>
                <a:cubicBezTo>
                  <a:pt x="11836" y="19275"/>
                  <a:pt x="12636" y="18544"/>
                  <a:pt x="12636" y="17622"/>
                </a:cubicBezTo>
                <a:lnTo>
                  <a:pt x="12636" y="12286"/>
                </a:lnTo>
                <a:lnTo>
                  <a:pt x="10800" y="12286"/>
                </a:lnTo>
                <a:lnTo>
                  <a:pt x="14308" y="8779"/>
                </a:lnTo>
                <a:lnTo>
                  <a:pt x="17981" y="12286"/>
                </a:lnTo>
                <a:lnTo>
                  <a:pt x="16144" y="12286"/>
                </a:lnTo>
                <a:lnTo>
                  <a:pt x="16144" y="17622"/>
                </a:lnTo>
                <a:cubicBezTo>
                  <a:pt x="16144" y="20389"/>
                  <a:pt x="13568" y="22948"/>
                  <a:pt x="10800" y="22948"/>
                </a:cubicBezTo>
                <a:lnTo>
                  <a:pt x="9138" y="22948"/>
                </a:lnTo>
                <a:cubicBezTo>
                  <a:pt x="6370" y="22948"/>
                  <a:pt x="3794" y="20389"/>
                  <a:pt x="3794" y="1762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76212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3657600" y="1676520"/>
            <a:ext cx="1371600" cy="1447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3429000"/>
            <a:ext cx="5181480" cy="27126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#2: Begin with the End in Mi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e your mission and goals in lif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 flipH="1" rot="16247400">
            <a:off x="5785920" y="3331080"/>
            <a:ext cx="1982880" cy="1714680"/>
          </a:xfrm>
          <a:custGeom>
            <a:avLst/>
            <a:gdLst>
              <a:gd name="textAreaLeft" fmla="*/ 360 w 1982880"/>
              <a:gd name="textAreaRight" fmla="*/ 1699920 w 1982880"/>
              <a:gd name="textAreaTop" fmla="*/ 1143360 h 1714680"/>
              <a:gd name="textAreaBottom" fmla="*/ 1715040 h 1714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>
            <a:hlinkClick r:id="rId1" action="ppaction://hlinksldjump"/>
          </p:cNvPr>
          <p:cNvSpPr/>
          <p:nvPr/>
        </p:nvSpPr>
        <p:spPr>
          <a:xfrm>
            <a:off x="7620120" y="5791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762120" y="160020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3657600" y="1676520"/>
            <a:ext cx="1371600" cy="1447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6705720" y="1685880"/>
            <a:ext cx="1371600" cy="1447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538280" y="361800"/>
            <a:ext cx="6248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vate Victory Habi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362320" y="3429000"/>
            <a:ext cx="6248160" cy="305604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#3 Put First Things Firs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ioritize, and do the most important things first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 rot="5400000">
            <a:off x="952560" y="3429000"/>
            <a:ext cx="1638000" cy="1409760"/>
          </a:xfrm>
          <a:custGeom>
            <a:avLst/>
            <a:gdLst>
              <a:gd name="textAreaLeft" fmla="*/ 0 w 1638000"/>
              <a:gd name="textAreaRight" fmla="*/ 1404000 w 1638000"/>
              <a:gd name="textAreaTop" fmla="*/ 939960 h 1409760"/>
              <a:gd name="textAreaBottom" fmla="*/ 1410120 h 14097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>
            <a:hlinkClick r:id="" action="ppaction://hlinkshowjump?jump=nextslide"/>
          </p:cNvPr>
          <p:cNvSpPr/>
          <p:nvPr/>
        </p:nvSpPr>
        <p:spPr>
          <a:xfrm>
            <a:off x="380880" y="5562720"/>
            <a:ext cx="685800" cy="9144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14400"/>
              <a:gd name="textAreaBottom" fmla="*/ 870120 h 914400"/>
            </a:gdLst>
            <a:ahLst/>
            <a:rect l="textAreaLeft" t="textAreaTop" r="textAreaRight" b="textAreaBottom"/>
            <a:pathLst>
              <a:path w="21600" h="28796">
                <a:moveTo>
                  <a:pt x="0" y="0"/>
                </a:moveTo>
                <a:lnTo>
                  <a:pt x="21600" y="0"/>
                </a:lnTo>
                <a:lnTo>
                  <a:pt x="21600" y="28796"/>
                </a:lnTo>
                <a:lnTo>
                  <a:pt x="0" y="28796"/>
                </a:lnTo>
                <a:close/>
              </a:path>
              <a:path fill="lightenLess" w="21600" h="287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6">
                <a:moveTo>
                  <a:pt x="21600" y="0"/>
                </a:moveTo>
                <a:lnTo>
                  <a:pt x="21600" y="28796"/>
                </a:lnTo>
                <a:lnTo>
                  <a:pt x="20200" y="27396"/>
                </a:lnTo>
                <a:lnTo>
                  <a:pt x="20200" y="1400"/>
                </a:lnTo>
                <a:close/>
              </a:path>
              <a:path fill="darkenLess" w="21600" h="28796">
                <a:moveTo>
                  <a:pt x="21600" y="28796"/>
                </a:moveTo>
                <a:lnTo>
                  <a:pt x="0" y="28796"/>
                </a:lnTo>
                <a:lnTo>
                  <a:pt x="1400" y="27396"/>
                </a:lnTo>
                <a:lnTo>
                  <a:pt x="20200" y="27396"/>
                </a:lnTo>
                <a:close/>
              </a:path>
              <a:path fill="lighten" w="21600" h="28796">
                <a:moveTo>
                  <a:pt x="0" y="287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6"/>
                </a:lnTo>
                <a:close/>
              </a:path>
              <a:path fill="darken" w="21600" h="28796">
                <a:moveTo>
                  <a:pt x="3794" y="11091"/>
                </a:moveTo>
                <a:lnTo>
                  <a:pt x="7301" y="11091"/>
                </a:lnTo>
                <a:lnTo>
                  <a:pt x="7301" y="16426"/>
                </a:lnTo>
                <a:cubicBezTo>
                  <a:pt x="7301" y="17349"/>
                  <a:pt x="8102" y="18080"/>
                  <a:pt x="9138" y="18080"/>
                </a:cubicBezTo>
                <a:lnTo>
                  <a:pt x="10800" y="18080"/>
                </a:lnTo>
                <a:cubicBezTo>
                  <a:pt x="11836" y="18080"/>
                  <a:pt x="12636" y="17349"/>
                  <a:pt x="12636" y="16426"/>
                </a:cubicBezTo>
                <a:lnTo>
                  <a:pt x="12636" y="11091"/>
                </a:lnTo>
                <a:lnTo>
                  <a:pt x="10800" y="11091"/>
                </a:lnTo>
                <a:lnTo>
                  <a:pt x="14308" y="7583"/>
                </a:lnTo>
                <a:lnTo>
                  <a:pt x="17981" y="11091"/>
                </a:lnTo>
                <a:lnTo>
                  <a:pt x="16144" y="11091"/>
                </a:lnTo>
                <a:lnTo>
                  <a:pt x="16144" y="16426"/>
                </a:lnTo>
                <a:cubicBezTo>
                  <a:pt x="16144" y="19194"/>
                  <a:pt x="13568" y="21753"/>
                  <a:pt x="10800" y="21753"/>
                </a:cubicBezTo>
                <a:lnTo>
                  <a:pt x="9138" y="21753"/>
                </a:lnTo>
                <a:cubicBezTo>
                  <a:pt x="6370" y="21753"/>
                  <a:pt x="3794" y="19194"/>
                  <a:pt x="3794" y="16426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are habits that deal with relationships and teamwor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Pj0424428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44792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MPj04244280000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14720" y="38671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Pj04244280000[1]"/>
          <p:cNvPicPr/>
          <p:nvPr/>
        </p:nvPicPr>
        <p:blipFill>
          <a:blip r:embed="rId5"/>
          <a:stretch/>
        </p:blipFill>
        <p:spPr>
          <a:xfrm>
            <a:off x="5715000" y="1523880"/>
            <a:ext cx="2438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MPj04244280000[1]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MPj04244280000[1]"/>
          <p:cNvPicPr/>
          <p:nvPr/>
        </p:nvPicPr>
        <p:blipFill>
          <a:blip r:embed="rId2"/>
          <a:stretch/>
        </p:blipFill>
        <p:spPr>
          <a:xfrm>
            <a:off x="3114720" y="38671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MPj04244280000[1]"/>
          <p:cNvPicPr/>
          <p:nvPr/>
        </p:nvPicPr>
        <p:blipFill>
          <a:blip r:embed="rId3"/>
          <a:stretch/>
        </p:blipFill>
        <p:spPr>
          <a:xfrm>
            <a:off x="5715000" y="1523880"/>
            <a:ext cx="2438280" cy="1981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7315200" y="1219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Win-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your constant companion.  I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eatest helper or heaviest bu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push you onward or drag you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ailure.  I am completely at your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the things I do you might just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ver to me and I will be able to do them quickly an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MPj04244280000[1]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MPj04244280000[1]"/>
          <p:cNvPicPr/>
          <p:nvPr/>
        </p:nvPicPr>
        <p:blipFill>
          <a:blip r:embed="rId2"/>
          <a:stretch/>
        </p:blipFill>
        <p:spPr>
          <a:xfrm>
            <a:off x="3114720" y="38671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Pj04244280000[1]"/>
          <p:cNvPicPr/>
          <p:nvPr/>
        </p:nvPicPr>
        <p:blipFill>
          <a:blip r:embed="rId3"/>
          <a:stretch/>
        </p:blipFill>
        <p:spPr>
          <a:xfrm>
            <a:off x="5715000" y="1523880"/>
            <a:ext cx="2438280" cy="198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7315200" y="1219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Win-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80880" y="333864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First to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5543640" y="4343400"/>
            <a:ext cx="847800" cy="1119240"/>
            <a:chOff x="5543640" y="4343400"/>
            <a:chExt cx="847800" cy="1119240"/>
          </a:xfrm>
        </p:grpSpPr>
        <p:sp>
          <p:nvSpPr>
            <p:cNvPr id="139" name="AutoShape 9"/>
            <p:cNvSpPr/>
            <p:nvPr/>
          </p:nvSpPr>
          <p:spPr>
            <a:xfrm>
              <a:off x="5543640" y="4343400"/>
              <a:ext cx="838080" cy="152280"/>
            </a:xfrm>
            <a:prstGeom prst="rightArrow">
              <a:avLst>
                <a:gd name="adj1" fmla="val 50000"/>
                <a:gd name="adj2" fmla="val 137589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0"/>
            <p:cNvSpPr/>
            <p:nvPr/>
          </p:nvSpPr>
          <p:spPr>
            <a:xfrm>
              <a:off x="5553000" y="5310360"/>
              <a:ext cx="838440" cy="152280"/>
            </a:xfrm>
            <a:prstGeom prst="rightArrow">
              <a:avLst>
                <a:gd name="adj1" fmla="val 50000"/>
                <a:gd name="adj2" fmla="val 137648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5543640" y="4343400"/>
              <a:ext cx="0" cy="10666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3"/>
          <p:cNvSpPr/>
          <p:nvPr/>
        </p:nvSpPr>
        <p:spPr>
          <a:xfrm>
            <a:off x="6648480" y="3962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419880" y="4019400"/>
            <a:ext cx="2362320" cy="6274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ynergiz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419880" y="5181480"/>
            <a:ext cx="2362320" cy="116100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harpen the Sa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8"/>
          <p:cNvSpPr txBox="1"/>
          <p:nvPr/>
        </p:nvSpPr>
        <p:spPr>
          <a:xfrm>
            <a:off x="5791320" y="45720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19"/>
          <p:cNvSpPr txBox="1"/>
          <p:nvPr/>
        </p:nvSpPr>
        <p:spPr>
          <a:xfrm>
            <a:off x="2610000" y="495288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0"/>
          <p:cNvSpPr txBox="1"/>
          <p:nvPr/>
        </p:nvSpPr>
        <p:spPr>
          <a:xfrm>
            <a:off x="2819520" y="396252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21"/>
          <p:cNvSpPr txBox="1"/>
          <p:nvPr/>
        </p:nvSpPr>
        <p:spPr>
          <a:xfrm>
            <a:off x="3429000" y="533412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22"/>
          <p:cNvSpPr txBox="1"/>
          <p:nvPr/>
        </p:nvSpPr>
        <p:spPr>
          <a:xfrm>
            <a:off x="3200400" y="327672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3"/>
          <p:cNvSpPr txBox="1"/>
          <p:nvPr/>
        </p:nvSpPr>
        <p:spPr>
          <a:xfrm>
            <a:off x="2895480" y="586728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4"/>
          <p:cNvSpPr txBox="1"/>
          <p:nvPr/>
        </p:nvSpPr>
        <p:spPr>
          <a:xfrm>
            <a:off x="4038480" y="327672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25"/>
          <p:cNvSpPr txBox="1"/>
          <p:nvPr/>
        </p:nvSpPr>
        <p:spPr>
          <a:xfrm>
            <a:off x="3962520" y="59436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26"/>
          <p:cNvSpPr txBox="1"/>
          <p:nvPr/>
        </p:nvSpPr>
        <p:spPr>
          <a:xfrm>
            <a:off x="5181480" y="350532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27"/>
          <p:cNvSpPr txBox="1"/>
          <p:nvPr/>
        </p:nvSpPr>
        <p:spPr>
          <a:xfrm>
            <a:off x="4876920" y="59436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28"/>
          <p:cNvSpPr txBox="1"/>
          <p:nvPr/>
        </p:nvSpPr>
        <p:spPr>
          <a:xfrm>
            <a:off x="5562720" y="57150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?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MPj04244280000[1]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MPj04244280000[1]"/>
          <p:cNvPicPr/>
          <p:nvPr/>
        </p:nvPicPr>
        <p:blipFill>
          <a:blip r:embed="rId2"/>
          <a:stretch/>
        </p:blipFill>
        <p:spPr>
          <a:xfrm>
            <a:off x="3200400" y="1447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MPj04244280000[1]"/>
          <p:cNvPicPr/>
          <p:nvPr/>
        </p:nvPicPr>
        <p:blipFill>
          <a:blip r:embed="rId3"/>
          <a:stretch/>
        </p:blipFill>
        <p:spPr>
          <a:xfrm>
            <a:off x="5715000" y="1523880"/>
            <a:ext cx="2438280" cy="1981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609480" y="3733920"/>
            <a:ext cx="5867640" cy="245412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 – Think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in-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an everyone-can-win 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 flipH="1" rot="16200000">
            <a:off x="6333120" y="3743280"/>
            <a:ext cx="1676520" cy="1352520"/>
          </a:xfrm>
          <a:custGeom>
            <a:avLst/>
            <a:gdLst>
              <a:gd name="textAreaLeft" fmla="*/ -360 w 1676520"/>
              <a:gd name="textAreaRight" fmla="*/ 1436760 w 1676520"/>
              <a:gd name="textAreaTop" fmla="*/ 901800 h 1352520"/>
              <a:gd name="textAreaBottom" fmla="*/ 1352880 h 13525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7924680" y="55627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  <a:path fill="darken" w="21600" h="23394">
                <a:moveTo>
                  <a:pt x="3794" y="8389"/>
                </a:moveTo>
                <a:lnTo>
                  <a:pt x="7301" y="8389"/>
                </a:lnTo>
                <a:lnTo>
                  <a:pt x="7301" y="13725"/>
                </a:lnTo>
                <a:cubicBezTo>
                  <a:pt x="7301" y="14647"/>
                  <a:pt x="8102" y="15378"/>
                  <a:pt x="9138" y="15378"/>
                </a:cubicBezTo>
                <a:lnTo>
                  <a:pt x="10800" y="15378"/>
                </a:lnTo>
                <a:cubicBezTo>
                  <a:pt x="11836" y="15378"/>
                  <a:pt x="12636" y="14647"/>
                  <a:pt x="12636" y="13725"/>
                </a:cubicBezTo>
                <a:lnTo>
                  <a:pt x="12636" y="8389"/>
                </a:lnTo>
                <a:lnTo>
                  <a:pt x="10800" y="8389"/>
                </a:lnTo>
                <a:lnTo>
                  <a:pt x="14308" y="4882"/>
                </a:lnTo>
                <a:lnTo>
                  <a:pt x="17981" y="8389"/>
                </a:lnTo>
                <a:lnTo>
                  <a:pt x="16144" y="8389"/>
                </a:lnTo>
                <a:lnTo>
                  <a:pt x="16144" y="13725"/>
                </a:lnTo>
                <a:cubicBezTo>
                  <a:pt x="16144" y="16493"/>
                  <a:pt x="13568" y="19051"/>
                  <a:pt x="10800" y="19051"/>
                </a:cubicBezTo>
                <a:lnTo>
                  <a:pt x="9138" y="19051"/>
                </a:lnTo>
                <a:cubicBezTo>
                  <a:pt x="6370" y="19051"/>
                  <a:pt x="3794" y="16493"/>
                  <a:pt x="3794" y="1372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Victory Ha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MPj04244280000[1]"/>
          <p:cNvPicPr/>
          <p:nvPr/>
        </p:nvPicPr>
        <p:blipFill>
          <a:blip r:embed="rId1"/>
          <a:stretch/>
        </p:blipFill>
        <p:spPr>
          <a:xfrm>
            <a:off x="609480" y="144792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MPj04244280000[1]"/>
          <p:cNvPicPr/>
          <p:nvPr/>
        </p:nvPicPr>
        <p:blipFill>
          <a:blip r:embed="rId2"/>
          <a:stretch/>
        </p:blipFill>
        <p:spPr>
          <a:xfrm>
            <a:off x="3200400" y="1447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MPj04244280000[1]"/>
          <p:cNvPicPr/>
          <p:nvPr/>
        </p:nvPicPr>
        <p:blipFill>
          <a:blip r:embed="rId3"/>
          <a:stretch/>
        </p:blipFill>
        <p:spPr>
          <a:xfrm>
            <a:off x="5715000" y="1523880"/>
            <a:ext cx="2438280" cy="1981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600200" y="3772080"/>
            <a:ext cx="7238880" cy="22932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#5:  Seek First to Understand, Then to Be Understood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-Listen to people sincerel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 rot="5400000">
            <a:off x="266040" y="3543120"/>
            <a:ext cx="1524240" cy="1143000"/>
          </a:xfrm>
          <a:custGeom>
            <a:avLst/>
            <a:gdLst>
              <a:gd name="textAreaLeft" fmla="*/ 0 w 1524240"/>
              <a:gd name="textAreaRight" fmla="*/ 1306440 w 1524240"/>
              <a:gd name="textAreaTop" fmla="*/ 76212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049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9600" y="1861920"/>
            <a:ext cx="53341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ynergize –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ultimate team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Work together to achieve mor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523880" y="457200"/>
            <a:ext cx="6096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OD JOB!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Picture 12" descr="MPj04306430000[1]"/>
          <p:cNvPicPr/>
          <p:nvPr/>
        </p:nvPicPr>
        <p:blipFill>
          <a:blip r:embed="rId1"/>
          <a:stretch/>
        </p:blipFill>
        <p:spPr>
          <a:xfrm>
            <a:off x="6110280" y="2209680"/>
            <a:ext cx="2538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 Only Leaves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abit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habit of renew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s the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MCj01326350000[1]"/>
          <p:cNvPicPr/>
          <p:nvPr/>
        </p:nvPicPr>
        <p:blipFill>
          <a:blip r:embed="rId1"/>
          <a:stretch/>
        </p:blipFill>
        <p:spPr>
          <a:xfrm>
            <a:off x="409680" y="914400"/>
            <a:ext cx="2442960" cy="5175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3581280" y="1523880"/>
            <a:ext cx="37339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052800" y="1576440"/>
            <a:ext cx="5791320" cy="3397320"/>
          </a:xfrm>
          <a:prstGeom prst="rect">
            <a:avLst/>
          </a:prstGeom>
          <a:noFill/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#7: Sharpen the Saw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new </a:t>
            </a:r>
            <a:r>
              <a:rPr b="1" i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yourself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regularly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MCj04300490000[1]"/>
          <p:cNvPicPr/>
          <p:nvPr/>
        </p:nvPicPr>
        <p:blipFill>
          <a:blip r:embed="rId2"/>
          <a:stretch/>
        </p:blipFill>
        <p:spPr>
          <a:xfrm>
            <a:off x="304920" y="5562720"/>
            <a:ext cx="1295280" cy="1022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MPj04073050000[1]"/>
          <p:cNvPicPr/>
          <p:nvPr/>
        </p:nvPicPr>
        <p:blipFill>
          <a:blip r:embed="rId3"/>
          <a:stretch/>
        </p:blipFill>
        <p:spPr>
          <a:xfrm>
            <a:off x="5425920" y="5334120"/>
            <a:ext cx="1043280" cy="1303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MPj04005530000[1]"/>
          <p:cNvPicPr/>
          <p:nvPr/>
        </p:nvPicPr>
        <p:blipFill>
          <a:blip r:embed="rId4"/>
          <a:stretch/>
        </p:blipFill>
        <p:spPr>
          <a:xfrm>
            <a:off x="6934320" y="5562720"/>
            <a:ext cx="1493640" cy="99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Pj04330550000[1]"/>
          <p:cNvPicPr/>
          <p:nvPr/>
        </p:nvPicPr>
        <p:blipFill>
          <a:blip r:embed="rId5"/>
          <a:stretch/>
        </p:blipFill>
        <p:spPr>
          <a:xfrm>
            <a:off x="2948040" y="5257800"/>
            <a:ext cx="1905120" cy="1263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MPj03143560000[1]"/>
          <p:cNvPicPr/>
          <p:nvPr/>
        </p:nvPicPr>
        <p:blipFill>
          <a:blip r:embed="rId6"/>
          <a:stretch/>
        </p:blipFill>
        <p:spPr>
          <a:xfrm>
            <a:off x="6781680" y="31240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3"/>
          <p:cNvSpPr txBox="1"/>
          <p:nvPr/>
        </p:nvSpPr>
        <p:spPr>
          <a:xfrm rot="19773000">
            <a:off x="7324560" y="3580920"/>
            <a:ext cx="76212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599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  </a:t>
            </a: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Renew   You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make or brea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kily, you are stronger than your ha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hang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see?  Stand up and fold your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the 7 Habits help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295280"/>
          <a:ext cx="8229600" cy="5075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control of your li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more done in less tim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smarter decision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happ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long with your parent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 balance between school, work, friend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your values and what matters most to yo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come addic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1400040" y="1600200"/>
            <a:ext cx="63439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Engravers MT"/>
              </a:rPr>
              <a:t>Paradigms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Engravers MT"/>
              <a:ea typeface="Engraver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Engravers MT"/>
              </a:rPr>
              <a:t>and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Engravers MT"/>
              <a:ea typeface="Engraver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Engravers MT"/>
              </a:rPr>
              <a:t>Principle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Engravers MT"/>
              <a:ea typeface="Engraver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 10 All-Time Stupid Qu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going to hear a list of statements made many years ago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ime, they sounded intellig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y sound to you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easily managed – you must mer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irm with me.  Show me exactly h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something done and after a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I will do it automatically.  I am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ant of all great individuals and, alas,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ilures, as well. Those who are great,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ade great.  Those who are fail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made fail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ree statements that you feel are valid in your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 to read a f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will hear some statements that real teens just like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ust as ridiculous as the list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happen to your list in ten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they have in comm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e way things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– all inaccurate or incomplete, even though the people were convinced they were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nother word for perceptions i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paradig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[pronoun:  pair-a-dimes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t is the way you see something, your point of view, frame of reference, or belief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ke 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incomplete paradigms about yourself or life in general, it’s like wearing glasses with the wrong pre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ffect everything in your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have paradigms about ourselves, other people, and life in gener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r paradigms helping or hindering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self-paradigms can put limitations o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self-paradigms can bring out the best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from different point of view can help us understand why other people act they way they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react to class mates that are moody or difficul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  And why do they act like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ually tell what your paradigm is by asking yourself the following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riving force of my lif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spend my time thinking abou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or what is my obsession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is important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come your paradigm, or your  &gt;  &gt;  &gt;  &gt;  &gt; 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fe-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nds, stuff, boyfriend/girlfriend, school, parents, sports/hobbies, heroes, enemies, self, an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not a machine, though I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ll the precision of a machine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lligence of a human.  You may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for a profit or run me for ruin –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no difference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great to belong to a gro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s can be fickle, fake, talk behind your back, find new friends, forget abou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cause you to compromi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ards to accommodat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Happ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get married,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digms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ake as many friends as you can, but don’t build your life on them.  It’s an unstable foundation.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ive in a materi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have the shiniest, fastest, nicest “things”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wrong with accomplishing and enjoying our “stuff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, never center your life 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n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yfriend/Girlf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iest tr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MPj03988390000[1]"/>
          <p:cNvPicPr/>
          <p:nvPr/>
        </p:nvPicPr>
        <p:blipFill>
          <a:blip r:embed="rId1"/>
          <a:stretch/>
        </p:blipFill>
        <p:spPr>
          <a:xfrm>
            <a:off x="4648320" y="1523880"/>
            <a:ext cx="388620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enter your life on your bf/gf what would happen if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ke a rude comment abo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lirt with your (bff) best fri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ay, “I think we should date other peop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you center your life on someone, the more unattractive you become to that pers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If you are centered on that other person, you are no longer hard to g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– It’s irritating when someone builds thei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t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otional life aroun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 is more attractive than 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ing your life on another does not show that you love          them, only that you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495680" y="3067200"/>
            <a:ext cx="762120" cy="914400"/>
          </a:xfrm>
          <a:custGeom>
            <a:avLst/>
            <a:gdLst>
              <a:gd name="textAreaLeft" fmla="*/ 177480 w 762120"/>
              <a:gd name="textAreaRight" fmla="*/ 584280 w 762120"/>
              <a:gd name="textAreaTop" fmla="*/ 96120 h 914400"/>
              <a:gd name="textAreaBottom" fmla="*/ 578880 h 9144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MCj02909070000[1]"/>
          <p:cNvPicPr/>
          <p:nvPr/>
        </p:nvPicPr>
        <p:blipFill>
          <a:blip r:embed="rId1"/>
          <a:stretch/>
        </p:blipFill>
        <p:spPr>
          <a:xfrm rot="19013400">
            <a:off x="3505320" y="4038120"/>
            <a:ext cx="79380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is vital to your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don’t let it be your only priority.  Don’t let dean’s list, GPAs, and AP classes take over your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o well in schoo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intain a healthy balance i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your greatest source of love and gui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enter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fe on them, or them on you, it can end up to be a real nightm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e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uild everything around being the “greatest” ath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live around a movie or rock star – they will disappoint you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te a group, person, or idea – you are warping your center of ex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holism is a compulsion to have more “stuff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me, train me, be firm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 will place the world at your feet. 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with me and I will destroy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>
            <a:hlinkClick r:id="rId1" action="ppaction://hlinksldjump"/>
          </p:cNvPr>
          <p:cNvSpPr/>
          <p:nvPr/>
        </p:nvSpPr>
        <p:spPr>
          <a:xfrm>
            <a:off x="5257800" y="541008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493"/>
                </a:moveTo>
                <a:lnTo>
                  <a:pt x="13779" y="7493"/>
                </a:lnTo>
                <a:lnTo>
                  <a:pt x="13779" y="12828"/>
                </a:lnTo>
                <a:cubicBezTo>
                  <a:pt x="13779" y="13751"/>
                  <a:pt x="14580" y="14482"/>
                  <a:pt x="15616" y="14482"/>
                </a:cubicBezTo>
                <a:lnTo>
                  <a:pt x="17278" y="14482"/>
                </a:lnTo>
                <a:cubicBezTo>
                  <a:pt x="18314" y="14482"/>
                  <a:pt x="19114" y="13751"/>
                  <a:pt x="19114" y="12828"/>
                </a:cubicBezTo>
                <a:lnTo>
                  <a:pt x="19114" y="7493"/>
                </a:lnTo>
                <a:lnTo>
                  <a:pt x="17278" y="7493"/>
                </a:lnTo>
                <a:lnTo>
                  <a:pt x="20786" y="3985"/>
                </a:lnTo>
                <a:lnTo>
                  <a:pt x="24459" y="7493"/>
                </a:lnTo>
                <a:lnTo>
                  <a:pt x="22622" y="7493"/>
                </a:lnTo>
                <a:lnTo>
                  <a:pt x="22622" y="12828"/>
                </a:lnTo>
                <a:cubicBezTo>
                  <a:pt x="22622" y="15596"/>
                  <a:pt x="20046" y="18155"/>
                  <a:pt x="17278" y="18155"/>
                </a:cubicBezTo>
                <a:lnTo>
                  <a:pt x="15616" y="18155"/>
                </a:lnTo>
                <a:cubicBezTo>
                  <a:pt x="12848" y="18155"/>
                  <a:pt x="10271" y="15596"/>
                  <a:pt x="1027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086600" y="5257800"/>
            <a:ext cx="1447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play the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s aren’t relig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American or Chin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mine or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up for discu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pply equaly to everyone – rich or poor – king or peasant – male, or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not be bought or s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live by them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ill exc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break them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ill f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itude, moderation, fairness, integrity, loyalty, respon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Never F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faith to live by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lier 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disloyal friend 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rasp why principles always work, imagine living a life based on their opposites.  What would you be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4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4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4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4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4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4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4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aby Steps</a:t>
            </a:r>
            <a:br>
              <a:rPr sz="8800"/>
            </a:br>
            <a:br>
              <a:rPr sz="8800"/>
            </a:b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mall, powerful tools to help you ahieve your larger goal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Sectio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ff3300"/>
                </a:solidFill>
                <a:latin typeface="Arial"/>
              </a:rPr>
              <a:t>SORRY </a:t>
            </a:r>
            <a:br>
              <a:rPr sz="7700"/>
            </a:br>
            <a:br>
              <a:rPr sz="7700"/>
            </a:b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Try</a:t>
            </a:r>
            <a:br>
              <a:rPr sz="7700"/>
            </a:b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Again!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914400" y="5867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276200" y="60530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1752480" y="58672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095560" y="60674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2681280" y="59101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9655"/>
                </a:moveTo>
                <a:lnTo>
                  <a:pt x="7301" y="9655"/>
                </a:lnTo>
                <a:lnTo>
                  <a:pt x="7301" y="14990"/>
                </a:lnTo>
                <a:cubicBezTo>
                  <a:pt x="7301" y="15913"/>
                  <a:pt x="8102" y="16644"/>
                  <a:pt x="9138" y="16644"/>
                </a:cubicBezTo>
                <a:lnTo>
                  <a:pt x="10800" y="16644"/>
                </a:lnTo>
                <a:cubicBezTo>
                  <a:pt x="11836" y="16644"/>
                  <a:pt x="12636" y="15913"/>
                  <a:pt x="12636" y="14990"/>
                </a:cubicBezTo>
                <a:lnTo>
                  <a:pt x="12636" y="9655"/>
                </a:lnTo>
                <a:lnTo>
                  <a:pt x="10800" y="9655"/>
                </a:lnTo>
                <a:lnTo>
                  <a:pt x="14308" y="6147"/>
                </a:lnTo>
                <a:lnTo>
                  <a:pt x="17981" y="9655"/>
                </a:lnTo>
                <a:lnTo>
                  <a:pt x="16144" y="9655"/>
                </a:lnTo>
                <a:lnTo>
                  <a:pt x="16144" y="14990"/>
                </a:lnTo>
                <a:cubicBezTo>
                  <a:pt x="16144" y="17758"/>
                  <a:pt x="13568" y="20317"/>
                  <a:pt x="10800" y="20317"/>
                </a:cubicBezTo>
                <a:lnTo>
                  <a:pt x="9138" y="20317"/>
                </a:lnTo>
                <a:cubicBezTo>
                  <a:pt x="6370" y="20317"/>
                  <a:pt x="3794" y="17758"/>
                  <a:pt x="3794" y="1499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5562720" y="5943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9655"/>
                </a:moveTo>
                <a:lnTo>
                  <a:pt x="7301" y="9655"/>
                </a:lnTo>
                <a:lnTo>
                  <a:pt x="7301" y="14990"/>
                </a:lnTo>
                <a:cubicBezTo>
                  <a:pt x="7301" y="15913"/>
                  <a:pt x="8102" y="16644"/>
                  <a:pt x="9138" y="16644"/>
                </a:cubicBezTo>
                <a:lnTo>
                  <a:pt x="10800" y="16644"/>
                </a:lnTo>
                <a:cubicBezTo>
                  <a:pt x="11836" y="16644"/>
                  <a:pt x="12636" y="15913"/>
                  <a:pt x="12636" y="14990"/>
                </a:cubicBezTo>
                <a:lnTo>
                  <a:pt x="12636" y="9655"/>
                </a:lnTo>
                <a:lnTo>
                  <a:pt x="10800" y="9655"/>
                </a:lnTo>
                <a:lnTo>
                  <a:pt x="14308" y="6147"/>
                </a:lnTo>
                <a:lnTo>
                  <a:pt x="17981" y="9655"/>
                </a:lnTo>
                <a:lnTo>
                  <a:pt x="16144" y="9655"/>
                </a:lnTo>
                <a:lnTo>
                  <a:pt x="16144" y="14990"/>
                </a:lnTo>
                <a:cubicBezTo>
                  <a:pt x="16144" y="17758"/>
                  <a:pt x="13568" y="20317"/>
                  <a:pt x="10800" y="20317"/>
                </a:cubicBezTo>
                <a:lnTo>
                  <a:pt x="9138" y="20317"/>
                </a:lnTo>
                <a:cubicBezTo>
                  <a:pt x="6370" y="20317"/>
                  <a:pt x="3794" y="17758"/>
                  <a:pt x="3794" y="1499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1"/>
          <p:cNvSpPr/>
          <p:nvPr/>
        </p:nvSpPr>
        <p:spPr>
          <a:xfrm>
            <a:off x="6553080" y="59436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7543800" y="5943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9655"/>
                </a:moveTo>
                <a:lnTo>
                  <a:pt x="7301" y="9655"/>
                </a:lnTo>
                <a:lnTo>
                  <a:pt x="7301" y="14990"/>
                </a:lnTo>
                <a:cubicBezTo>
                  <a:pt x="7301" y="15913"/>
                  <a:pt x="8102" y="16644"/>
                  <a:pt x="9138" y="16644"/>
                </a:cubicBezTo>
                <a:lnTo>
                  <a:pt x="10800" y="16644"/>
                </a:lnTo>
                <a:cubicBezTo>
                  <a:pt x="11836" y="16644"/>
                  <a:pt x="12636" y="15913"/>
                  <a:pt x="12636" y="14990"/>
                </a:cubicBezTo>
                <a:lnTo>
                  <a:pt x="12636" y="9655"/>
                </a:lnTo>
                <a:lnTo>
                  <a:pt x="10800" y="9655"/>
                </a:lnTo>
                <a:lnTo>
                  <a:pt x="14308" y="6147"/>
                </a:lnTo>
                <a:lnTo>
                  <a:pt x="17981" y="9655"/>
                </a:lnTo>
                <a:lnTo>
                  <a:pt x="16144" y="9655"/>
                </a:lnTo>
                <a:lnTo>
                  <a:pt x="16144" y="14990"/>
                </a:lnTo>
                <a:cubicBezTo>
                  <a:pt x="16144" y="17758"/>
                  <a:pt x="13568" y="20317"/>
                  <a:pt x="10800" y="20317"/>
                </a:cubicBezTo>
                <a:lnTo>
                  <a:pt x="9138" y="20317"/>
                </a:lnTo>
                <a:cubicBezTo>
                  <a:pt x="6370" y="20317"/>
                  <a:pt x="3794" y="17758"/>
                  <a:pt x="3794" y="1499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3038400" y="6095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5943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6877080" y="6091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7867800" y="6105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is a jungle for everyone out of kindergarten and it helps to have a compass, or tool, that helps move us in the right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otional Roller Co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situations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deal with in real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Somebody, please take notes!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Life is going to happen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t help to have a set o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you to deal with these types of iss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t hu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20:50:06Z</dcterms:created>
  <dc:creator>Janet Canfield</dc:creator>
  <dc:description/>
  <dc:language>en-US</dc:language>
  <cp:lastModifiedBy>NHBOE</cp:lastModifiedBy>
  <dcterms:modified xsi:type="dcterms:W3CDTF">2013-09-03T18:58:11Z</dcterms:modified>
  <cp:revision>55</cp:revision>
  <dc:subject/>
  <dc:title>7 Habits</dc:title>
</cp:coreProperties>
</file>